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795-ADE3-4466-820E-44295FA3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02D-D760-4D1F-A28C-2FF27F2A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93344-5886-4C11-BF8E-5A8BAE0D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A4F8A-812B-4399-BBFF-078BE48F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74607-E5FA-4733-8696-2EA9B906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ED17-2AA6-4E5A-8BE4-7959D8FA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F7565-C7B6-44E2-A3C8-01469575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EC3F5-02B4-48C5-9AAF-0749886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6ACA-73A2-4E20-83DA-22B6A450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D8CCA3-0233-4BC2-B2E6-EB859236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3A2CE-7D5F-492D-A370-F8B5BBC7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428EC-C5D4-459A-9E9B-6E74A567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AAB-62A8-42E2-BE7B-D4B582A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90914-80D8-4BBC-8BE7-DE27D7B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52B7A-9F22-44F0-A2D2-37DD1CCC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0F6F1-0E82-4217-82DD-FB5DB95F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3207-F62F-47CE-838B-94323967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EF060-1EDB-4F95-A5CA-0B5A6132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03E79-A849-4644-8A75-944FF355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998EE-805A-40AF-8453-3E33E26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E4431-4EE8-4793-A06F-5B07EEB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6E3A6-28B2-443E-9DE4-6B49036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10E43-4352-4003-A30F-2E575EE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4ED-2CEC-432D-91DF-12C1E967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ED3F4-5054-4B3B-9AD3-5E9F2818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C6DD6-5DA1-41E6-B0EB-8D58D52F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B18E5-CFAB-40E9-A4CD-B0FC520F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400F9-2789-4DA9-B26B-1AE3190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645B0-165C-424E-84BA-0C21516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BCD18-082A-4362-ABDA-3B28DCB2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1364F-98A5-46F0-94E8-1BC11EF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A7D74-541F-4555-B17A-7F03484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67A05-83FB-4A94-AB4D-76150F6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A0073-31FC-4C8D-9BE0-674AA500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63C0-CAC1-4B4C-AB80-5D8F03B3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E239E-1B93-47D7-9493-D57E2896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43C7B-F674-443A-ADA9-2A2AFBE6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85B53-FD54-4B0D-A89C-EA3A9CF6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9D7B36-C815-417D-9E04-8EB536313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DB7FD-31C4-400A-8AAF-64196A82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C1BB8-2BAA-4014-A6C1-083498FA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4A3E3-F613-4F4B-B034-326AF1D8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0FAE7-FD34-4209-A4D7-20AD05C2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8DF38-6C80-4D4B-8644-A3DE8048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519FB-8861-42A7-8362-4CE2428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E937-4AFD-4F38-BB6D-20185363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B12E9-D04C-4D90-9B7D-96D31240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63BEB-4BD3-4EF9-B81F-C8830DDE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997F2-5077-4182-B480-7CEFF58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49C71-5476-4AFE-82F8-E27A21F6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3C475-B46A-4A92-8022-1B0D2BE7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9F359-EF30-4CC8-AE8C-63CF8652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09BD7-4B9C-48D3-8BEA-15E06A4D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C6C50-09CB-4F98-B918-A306509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8C5B5-AF1C-4AAD-8F76-A62BBEA2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CB414-4C58-4B24-9CCB-2C99348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DE43-303D-4AB4-8A76-DB10A14F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88A58E-5D68-4E57-B5DF-8F511F6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011FC-4474-4E2F-86B9-666C53EE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176D53-52E7-42CA-967F-D925CC1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FB8FB-357B-43E9-8D6D-0EFF825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A5660-B1D6-4614-A0EB-8F18657A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B6C2A-8246-4076-AFF4-CA88CD06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28816-97A2-4F4F-9713-299381C3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39305-D30B-44D6-B617-B327C12A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EB994-7825-4229-843F-1515D8B6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522F7-E418-4D54-9DF3-9BB8E358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EC8C-8E62-436F-83D4-C5040C3E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EFB33-C3BC-456A-ACD6-1C72068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F3039-E636-406A-8E2F-15FA24CC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792E9-490C-4948-807E-8BCF6F32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F8787-FE26-415A-9B7C-3E05295C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12479E-24D3-4FB7-BAF2-E7CB3C1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399A6-C362-4116-BC66-4254E894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5BF82-2C1B-4EBC-A904-E9494B89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0727D-A25E-4208-975F-B06DD941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F2131-A91E-4692-B9FF-CB789778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DA1BA-681D-4420-B717-7D313DFD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0BDB-360F-49E2-805A-DDF114FF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E1714-3F63-4356-B607-F8A6194A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B0871B-5CBF-4481-996B-6C024EA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ADA1B-ED13-40C2-9B9A-93C479C3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95B73B-F648-49EE-AFDC-FDB5F18A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5E255-3938-423D-99F8-6CB4B50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FC295-623A-4015-9FCD-4CB1A449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38A0FE-EED6-4C3E-A185-CA08030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300D6-814E-4F77-A45B-3C71B00E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75471-A35D-44BA-BD44-3437B012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D31E3C-8F40-44E7-9019-71749477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817A-CDF2-44A8-AFAF-F72AB327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0A3C5-D2AF-43A5-B20E-AB03B971A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F4D691-347C-4B49-9886-E7438BC3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AF00D1-304B-4D81-8D22-E7954A32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6A5E1-90CC-4B4E-A2D4-4443D513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523B0-7B9B-4AA3-AA87-8BDFEA1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4D49D7-9EDD-4F15-AB7D-3BC16B3D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D7BEE-672A-4749-9397-935D6260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B1D8B-299A-4962-885A-EA190843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C860FD-7F22-47FB-9D6C-2C398ABB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BDCA86-8229-40E3-A20A-87C7FB9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6B4F-73CE-4282-AFBA-5B3F51ED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01F15-09F4-4025-99C5-F6C9C5E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36A85-7AD5-4B38-ABFA-F72A6215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E6A56-B45E-4FB2-AC2B-5EAAED32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49416-C541-4AF7-92C6-9AA289B3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00248-D357-4FFE-A728-47DB2E70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52B9E5-BA31-4714-B5C4-410572B3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D528A-3BFD-41BA-8831-C999521E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8B4B21-6E68-4080-96FD-879BFAD4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3F85AB-5D85-4833-9250-5ED65441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3FFEB9-AA94-4B15-ADD7-257AAFC1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902C-8DAF-46D1-9E39-5BC2E51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FF4-0028-4038-BCF3-F8BE92C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FDD30-8671-464D-84A1-10136F6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C12A1-E0CE-4ECD-B5C2-3ABB3C74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58A63-96A8-45BA-A425-D8D6BAA8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8133C-0BED-48B1-97AA-DDA4EAA2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3202B-AC01-434A-8E6C-50458C64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BE6AF-3E09-443B-BC30-63A8B46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CE1EF-EF50-4A82-983D-DA6DB0F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826C6-120D-4A42-A1FD-2ED3B61C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D3812-0F58-466D-AE79-C844093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16F1A-8F8A-48E5-AD67-F488DA49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61A4-27F9-4CA6-AB96-2B35787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E2216-A715-4BAB-B7FA-3C6140BE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A49A6-0535-4F7D-9425-E5D31AF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65676-C904-44A8-86FA-C304C52D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599913-B8CC-4B8C-A4CF-EDEB6DED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467E3-5C9B-457F-B5AE-0421BF3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E942A-2BB7-44E4-A580-595CEA29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3855E-A34B-4749-B718-10829C0B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B4C45-0EE2-4AAF-891B-107918F9F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0332E-09BC-4F3C-8F1E-69A1B041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8A2DF5-A892-432D-855E-BC2A2131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B278-AD25-45F5-9981-EC37D52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F3C62-7E09-46E1-B1C6-34C9C43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7D6A3F-3786-4947-9832-885D9BC7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68699B-DEB7-4EFA-B90F-FB37191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C4DF6-F656-4E21-94D9-E71F64D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557DC-EE99-49AB-9B32-CC7CFBC6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FD68DD-7E5C-4A4C-A800-F020521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2EEB57-5512-4EF0-ADE2-E65676D2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DDB7E-B820-4526-A646-18A4DD83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287D33-233E-44FA-B412-E5BD6557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B1C53A-489F-4262-AD8D-1B19382F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B4EB-A1BE-40ED-AB24-E9AEAE33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B7E76-7BB8-4FCA-8FDB-A81CAFA1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099695-B14D-4D9F-8DAC-69540D3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1F55A-92BC-47AB-901E-6F7D0968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7ED965-6F5C-4D20-92A5-26B879A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69675-853B-474E-9917-A58D7A5C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A2551-DD49-41F8-B8B2-115C8830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D284CD-C0BE-4A92-8816-8A16C925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F8DE1-961F-4840-ABE2-72997D8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68167-703F-4BE5-B444-5B0DB935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59411-E627-4D87-A525-648B0E91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314F-C4AB-40DA-8461-7BAE6A04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ED6737-CBC3-4F3B-B34C-B4915356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336F-46F2-430C-90FA-CF5EF3E7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D475-2415-44E9-AD98-BFCBBE0E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9A49D-0AA2-4BF3-833F-C08FDB28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E7277-11F8-44B7-8560-9DAF6BFE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DC52B-DD66-42CC-B216-C34D24CC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2A01-5743-4AE2-8A8B-31124F06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2FE8-2598-4048-9040-B7FB2FB2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B6298-B2A9-482B-96CA-5EA13F1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27116-297F-4F71-9D12-FF2FDD63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3DA3-632A-47F4-8522-19D3EF3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6651-4C9B-47D8-82F0-74DB10BB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F282-86AD-4ACD-8146-02BB823A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5BE0-9F6C-44E2-9F3B-1FBEEB0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FE3C3-0BC1-4B4A-AD13-18DC5C2C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9A727-51C3-484B-A8DE-EAA5079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F41AAA-5F05-4F30-A606-5845739B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737-AF89-4A15-8ADC-54BACFBD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8D6E6D-95AB-47EB-83F9-44D85AB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8E851-4333-42EF-BA24-A66A7321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4B6DD-0083-4AA1-B5A1-23FE5165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B6F8C-6BFF-4F88-9531-3132BFA6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A8875-C484-4162-AF9F-9FA71F41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861CF-C5D2-4F74-9C65-9D05ECE6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5756F-87EC-4B96-9CC3-E5494895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C3AE4-A135-42C9-8C06-4B2C0A43F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7990E5-284C-4310-AA05-87372A20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41F10-3786-4D58-9783-2879145E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BB0-4FC7-4823-9CE4-33363F0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19D14-3572-41CA-9C2B-A26FB790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2222-F2BB-4B5D-8BEE-B1EEADF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75F4-018D-425A-BCD0-F11AE518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8F9E-44F6-417B-B64E-C0A67C45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455C5-3849-4937-B9C2-05FCB61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6DDBA-5E49-44C8-B1BD-CC2464EB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9A92A-DF89-4144-BF7B-EECB028D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022A-EDD4-4C12-B39E-2DFF6F7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7C7F8-EE70-44F4-942F-B1A0845B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21E75-CA58-4196-89D1-514F0BDC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476-0392-4F32-9472-F507DFAA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7D15F-4D4E-4383-B64A-87434018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FD64-A93C-4059-8FA8-A6C65FFA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85FF6-DF40-407E-B3C6-E298856D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8D1D0-C6AD-4092-9CCD-9827A1B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0C1AD-CBD6-4E19-8727-B537E8FF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A966B-D1A5-4934-ACFD-1A3F9C92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673FA-CD0A-47A5-9DFF-E0E425C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CD9DC-C8A0-409F-AA33-6B1A2C1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84DC-F523-42FD-9DD7-23370383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0E78-A2AE-4401-AA90-552F734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751-A91D-476D-A57C-EE1EB2D0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ADB6-0B9C-4DD8-824F-99DECD68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5E89E-6C30-4159-B119-E22E420E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FAC33-A6CA-4A72-A025-7A22E900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DE16-F3BB-41EB-9D07-8336F4BD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43BD8-6781-4BA0-9C70-D8662C7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13A1A-94A5-47C9-818A-60797A4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83FD0-EA6A-454C-88CD-06E744BC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AE7A0-E30B-4C95-9316-4372AE73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8222-9D45-43F7-86B9-8A6F26D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D1CB-3B49-411A-B829-F15D61D7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115E-A953-4DFD-978D-375BA20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0C4D-65C1-4060-8B6C-E51404C7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EF449-CA9B-486F-AC71-985E1A5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34DD-F4C0-4D72-8038-273507E3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07AC-F2D1-470F-8291-7133DD8F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0D222-1FAD-49D3-A37A-4F37305A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2AA71-C8D9-433A-9921-250C6D54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598A7-EDF9-4439-B5F5-71F990A3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EDFA8-B530-4541-B367-E19DDD9A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A7C8-EA20-472F-9D32-565798D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B6BAA-4E32-4F42-A15B-0CE6F879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858-D7E9-4353-8E37-6AC9F92B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03164-A0B7-4698-8447-96CB8CD8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BBF68-83BD-4265-8A49-A77D9A1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98FFF-2758-40FE-9FED-9C9ECEB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FA34B-58BB-4252-9895-79F03DB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DBFB8-854F-4699-A2B3-5534155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45F7E-2B0B-4A15-AF54-9EFC4BED1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4DA6-37FA-4FD6-8608-56DF0AC6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3F8E3-66FB-420A-B093-28169354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0BB88-2A71-499E-B428-F6B5193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EB4DE-4469-4CB2-844C-6F17973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BB9F-BB1B-40F7-A12B-BAF988E9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865-9ACA-4C4A-80E9-C259D764AE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D396-9990-4866-AC9F-7E1BCC509D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48B-4089-49CB-932B-2C477359E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7BA7-0B6D-4070-99AA-B0220641A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6635-AAED-4F32-A201-D01F0BFC95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55F-F745-4797-9147-E5176DAF8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527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534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535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6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557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558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580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6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587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588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591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594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6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00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B5AC-7E26-4E8B-86E5-845BAA356D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BF74-C76F-442A-B778-766609575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E48C-ADA9-4030-AB04-F45F58075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892-BF53-4E94-B548-151B9B8CF2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DCFA-F3B3-4AE8-BE65-9270B79B62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66B0-2220-4476-9318-14B24894CA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AD2A-C8FC-4704-BF17-0D8DE1ECD6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9AB-B1EB-43B9-BB75-163055806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32E-BC46-432F-80A1-959B1DB8B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66F0-A72B-4D21-8551-A4AF7F200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组合 145" descr=""/>
          <p:cNvPicPr/>
          <p:nvPr/>
        </p:nvPicPr>
        <p:blipFill>
          <a:blip r:embed="rId2"/>
          <a:stretch/>
        </p:blipFill>
        <p:spPr>
          <a:xfrm>
            <a:off x="1170000" y="888840"/>
            <a:ext cx="585720" cy="438480"/>
          </a:xfrm>
          <a:prstGeom prst="rect">
            <a:avLst/>
          </a:prstGeom>
          <a:ln w="0">
            <a:noFill/>
          </a:ln>
        </p:spPr>
      </p:pic>
      <p:pic>
        <p:nvPicPr>
          <p:cNvPr id="827" name="组合 153" descr=""/>
          <p:cNvPicPr/>
          <p:nvPr/>
        </p:nvPicPr>
        <p:blipFill>
          <a:blip r:embed="rId3"/>
          <a:stretch/>
        </p:blipFill>
        <p:spPr>
          <a:xfrm>
            <a:off x="2035080" y="503280"/>
            <a:ext cx="446040" cy="3063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BB9D-3142-4281-AA65-8137D71C3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6E2D-ACE5-4C33-A76C-A779C80D70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86D0-E7FB-4174-9441-33B7C1A6ED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85B0-9A78-4C9C-9A04-E74D701BB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CE22-E639-4D8A-9339-8C66B5F481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5AF-DDF1-412B-BEB0-AB927BE87B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4856-B51B-43DE-B1D4-914D66AF3C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D681-73C8-4440-8283-D2BB32230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49F6-FA37-4F10-B2D2-BFB6C0699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6CC-DA59-4779-85C8-AE70EBB7C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616-46DE-438D-8E48-786254473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A6CA-EFEE-4523-BBC7-C018E289FB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17B-0506-4C2E-9920-D1D04A415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59F-0491-492E-8954-5BFB114C73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FF87-CF90-487E-B76B-BB55480337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4035-59C5-47D4-8DC4-C43D4D09C8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FF6E-A4E9-4BBF-9DDC-A65FE3631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C140-19D5-49AF-86B9-F835529B77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8907-F86C-4794-A919-4501EA5B87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E781-F296-4548-84D6-B5F4F402B5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2A8-A159-4349-8444-ABB6D6D140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88880" y="2157120"/>
            <a:ext cx="477360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300" spc="-1" strike="noStrike">
              <a:solidFill>
                <a:srgbClr val="743805"/>
              </a:solidFill>
              <a:latin typeface="Arial"/>
              <a:ea typeface="汉仪乐喵体W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88880" y="3381120"/>
            <a:ext cx="4773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0" name="图片 1" descr=""/>
          <p:cNvPicPr/>
          <p:nvPr/>
        </p:nvPicPr>
        <p:blipFill>
          <a:blip r:embed="rId1"/>
          <a:stretch/>
        </p:blipFill>
        <p:spPr>
          <a:xfrm>
            <a:off x="2728800" y="3162240"/>
            <a:ext cx="3686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88880" y="2157120"/>
            <a:ext cx="477360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300" spc="-1" strike="noStrike">
              <a:solidFill>
                <a:srgbClr val="743805"/>
              </a:solidFill>
              <a:latin typeface="Arial"/>
              <a:ea typeface="汉仪乐喵体W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88880" y="3381120"/>
            <a:ext cx="4773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3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2" descr=""/>
          <p:cNvPicPr/>
          <p:nvPr/>
        </p:nvPicPr>
        <p:blipFill>
          <a:blip r:embed="rId2"/>
          <a:stretch/>
        </p:blipFill>
        <p:spPr>
          <a:xfrm>
            <a:off x="42840" y="1257480"/>
            <a:ext cx="9056880" cy="4343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504720" cy="304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2916360" y="3011400"/>
            <a:ext cx="504720" cy="304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505080" cy="304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6372360" y="2997360"/>
            <a:ext cx="504720" cy="3045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8317080" y="3011400"/>
            <a:ext cx="504720" cy="304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1258920" y="3471840"/>
            <a:ext cx="504720" cy="3049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3132000" y="3486240"/>
            <a:ext cx="505080" cy="304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4716360" y="3486240"/>
            <a:ext cx="505080" cy="304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6659640" y="3486240"/>
            <a:ext cx="504720" cy="304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8317080" y="3486240"/>
            <a:ext cx="504720" cy="3045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12880" y="5157720"/>
            <a:ext cx="303120" cy="3049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2944800" y="5157720"/>
            <a:ext cx="303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88880" y="2157120"/>
            <a:ext cx="477360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300" spc="-1" strike="noStrike">
              <a:solidFill>
                <a:srgbClr val="743805"/>
              </a:solidFill>
              <a:latin typeface="Arial"/>
              <a:ea typeface="汉仪乐喵体W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88880" y="3381120"/>
            <a:ext cx="4773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79" name="图片 1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250040" cy="43020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2"/>
          <a:stretch/>
        </p:blipFill>
        <p:spPr>
          <a:xfrm>
            <a:off x="1417680" y="246852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3"/>
          <a:stretch/>
        </p:blipFill>
        <p:spPr>
          <a:xfrm>
            <a:off x="1403280" y="2997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4"/>
          <a:stretch/>
        </p:blipFill>
        <p:spPr>
          <a:xfrm>
            <a:off x="1403280" y="350028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5"/>
          <a:stretch/>
        </p:blipFill>
        <p:spPr>
          <a:xfrm>
            <a:off x="1403280" y="4076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6"/>
          <a:stretch/>
        </p:blipFill>
        <p:spPr>
          <a:xfrm>
            <a:off x="1403280" y="4581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7"/>
          <a:stretch/>
        </p:blipFill>
        <p:spPr>
          <a:xfrm>
            <a:off x="1403280" y="50846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88880" y="2157120"/>
            <a:ext cx="477360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3300" spc="-1" strike="noStrike">
              <a:solidFill>
                <a:srgbClr val="743805"/>
              </a:solidFill>
              <a:latin typeface="Arial"/>
              <a:ea typeface="汉仪乐喵体W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88880" y="3381120"/>
            <a:ext cx="477360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88" name="图片 1" descr=""/>
          <p:cNvPicPr/>
          <p:nvPr/>
        </p:nvPicPr>
        <p:blipFill>
          <a:blip r:embed="rId1"/>
          <a:stretch/>
        </p:blipFill>
        <p:spPr>
          <a:xfrm>
            <a:off x="19080" y="1576440"/>
            <a:ext cx="910584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14:06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